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63D-1F04-4F06-96A1-D6A07C31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993-73DE-4435-A6B8-086BAE6C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83EA-22B0-4B9E-B092-35B205C8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A87-F61C-414E-9E4F-8511177B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EA75-EA63-4D9D-89D8-B34ED02F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8A30-C59E-40D6-89EE-63128E7B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D1B7-F80D-47D8-AC94-7C45E190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2FA9-7F9E-4C1F-B2B4-DB9B6B22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82C8-E4D4-4205-9756-F047ABFA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026D-232F-4176-A817-37FBC255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557B-43E7-4CDD-A385-E46B69DE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C81-AFA0-4018-B902-DD63B553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C132-4BAE-4B72-B281-0C47CB3A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5C4F-8C4E-433B-84CA-91ADE15F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F80B-D69D-43B6-A664-92D8FE7F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BE8E-C53C-4394-9786-26CDFF24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696E-A2EB-47CC-8A32-356DD492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F9F-9678-47BF-9CC0-C6C8D2D2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8741-2E9C-468D-8986-AF443AC8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1E9-3833-4EE3-8C79-93B8C6F3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1F7-9696-43B0-B82F-4E106704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8DC-8F71-4A0A-8412-BD70CC4F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104-219C-4BF0-8D12-16EB499D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B753-5CDB-4A46-8C0F-9F32FCB0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208F-42AA-4401-9C3F-A8C66DCF3B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693C-DF28-4683-8D5D-C4A190CE8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371600"/>
            <a:ext cx="89917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rt 23 do Código de Min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23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s estudos referidos no inciso V do art. 22 concluirão pel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 - exeqüibilidade técnico-econômica da lavra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I - inexistência de jazida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II - inexeqüibilidade técnico-econômica da lavra em face da presença de fatores conjunturais adversos, tais com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inexistência de tecnologia adequada ao aproveitamento econômico da substância mineral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inexistência de mercado interno ou externo para a substância mineral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35:34Z</dcterms:modified>
  <cp:revision>61</cp:revision>
  <dc:subject/>
  <dc:title>Apresentação do PowerPoint</dc:title>
</cp:coreProperties>
</file>